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122-9C40-4B86-9BC3-12E40623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A69-B5DE-441B-83E7-4971371D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D31-A645-4351-89DD-E4C5078C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C8E-7E41-433E-A209-67ECAB9C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3C1-8201-4585-AF21-570DC74A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DCF-151B-4C4A-B353-F124E542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E69-9F92-446E-992E-6390471A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7DA-ABA5-440D-847F-72763FBD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6EB-2DC4-4D59-92E9-84F997CC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D6C-89C3-48E8-9531-9BCB1F81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206-7A13-4CA2-9A7D-12783CEB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FF1-0B8B-48B2-9B01-3EC8D60F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D1F7-BDB2-445F-B471-CD597EE0C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26"/>
          <p:cNvSpPr/>
          <p:nvPr/>
        </p:nvSpPr>
        <p:spPr>
          <a:xfrm>
            <a:off x="1523880" y="609480"/>
            <a:ext cx="7010640" cy="41158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Indirect Object Pronou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7"/>
          <p:cNvSpPr/>
          <p:nvPr/>
        </p:nvSpPr>
        <p:spPr>
          <a:xfrm>
            <a:off x="3773880" y="5513400"/>
            <a:ext cx="141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1029"/>
          <p:cNvSpPr txBox="1"/>
          <p:nvPr/>
        </p:nvSpPr>
        <p:spPr>
          <a:xfrm rot="5400000">
            <a:off x="-2495880" y="3029040"/>
            <a:ext cx="62485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PAÑOL I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0" y="2895480"/>
            <a:ext cx="96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 the correct indirect object pronou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-50760" y="5181480"/>
            <a:ext cx="920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ta wants to give the balloons to yo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889280" y="3605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1523880" y="3657600"/>
            <a:ext cx="617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gives her sisters a gif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28600" y="0"/>
            <a:ext cx="426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box by filling in the five indirect object pronou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724280" y="304920"/>
            <a:ext cx="4038840" cy="23619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029200" y="304920"/>
            <a:ext cx="358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Me          Nos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Le           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7467480" y="1523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6705720" y="3049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2"/>
          <p:cNvSpPr/>
          <p:nvPr/>
        </p:nvSpPr>
        <p:spPr>
          <a:xfrm>
            <a:off x="4724280" y="10666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4724280" y="18288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219600" y="4419720"/>
            <a:ext cx="86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lla        da un regalo a sus herman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3336840" y="4824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830880" y="5867280"/>
            <a:ext cx="77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rta quiere dar    los globos a t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1372680" y="441972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4573440" y="58672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277080" y="2517840"/>
            <a:ext cx="25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l F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1371600" y="6172200"/>
            <a:ext cx="62485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"/>
          <p:cNvSpPr/>
          <p:nvPr/>
        </p:nvSpPr>
        <p:spPr>
          <a:xfrm flipV="1">
            <a:off x="7620120" y="533160"/>
            <a:ext cx="0" cy="56386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1371600" y="533160"/>
            <a:ext cx="0" cy="56386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1371600" y="533520"/>
            <a:ext cx="62485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WordArt 7"/>
          <p:cNvSpPr txBox="1"/>
          <p:nvPr/>
        </p:nvSpPr>
        <p:spPr>
          <a:xfrm rot="5400000">
            <a:off x="5200200" y="310500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PAÑO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WordArt 19"/>
          <p:cNvSpPr txBox="1"/>
          <p:nvPr/>
        </p:nvSpPr>
        <p:spPr>
          <a:xfrm rot="5400000">
            <a:off x="-2533680" y="310500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SPAÑOL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83808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pronouns that receive the action of the ver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represent people or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ually are introduced by the words ‘to’ or ‘for’ (a, par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 ‘to whom’ or ‘for whom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and Les are used often with the noun to identify or be more specif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438280" y="22860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re IOP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974880" y="803160"/>
            <a:ext cx="26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1143000" y="1219320"/>
            <a:ext cx="6705720" cy="5333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4419720" y="1219320"/>
            <a:ext cx="0" cy="533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1143000" y="28954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1143000" y="472428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2286000" y="17524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517680" y="324180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822240" y="11736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2286000" y="35812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2363400" y="5334120"/>
            <a:ext cx="77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5563080" y="1703520"/>
            <a:ext cx="116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5638680" y="53341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5257800" y="3886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1293840" y="304920"/>
            <a:ext cx="630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Object Pro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05000" y="0"/>
            <a:ext cx="831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re do you place the Prono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685800"/>
            <a:ext cx="9144000" cy="52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f  it is the object of a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onjugated ver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pronoun goe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n fro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the ver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f it is the object of an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nfinitiv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pronoun i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ttached to 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f the infinit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219320" y="304812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30880" y="6095880"/>
            <a:ext cx="84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: 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uedes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traer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com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3880" y="2743200"/>
            <a:ext cx="634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:  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tra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com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9"/>
          <p:cNvSpPr/>
          <p:nvPr/>
        </p:nvSpPr>
        <p:spPr>
          <a:xfrm>
            <a:off x="1219320" y="6400800"/>
            <a:ext cx="228600" cy="2286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04920" y="104760"/>
            <a:ext cx="83055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4100" spc="-1" strike="noStrike">
                <a:solidFill>
                  <a:srgbClr val="0000ff"/>
                </a:solidFill>
                <a:latin typeface="Times New Roman"/>
              </a:rPr>
              <a:t>must</a:t>
            </a: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 indirect object clarifiers or emphasis be included?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04920" y="1295280"/>
            <a:ext cx="8458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larifier must be added with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 or 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cause there can be so many objects or things that can replace those two pronou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ella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 gusta comer la pizz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443960" y="990720"/>
            <a:ext cx="65419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Put at the </a:t>
            </a:r>
            <a:r>
              <a:rPr b="0" lang="en-US" sz="4100" spc="-1" strike="noStrike">
                <a:solidFill>
                  <a:srgbClr val="0000ff"/>
                </a:solidFill>
                <a:latin typeface="Times New Roman"/>
              </a:rPr>
              <a:t>end of the predicate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3505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 with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ustar-li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erbs the clarifier is placed in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ro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93840" y="13190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60720" y="212760"/>
            <a:ext cx="84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cement of Indirect Object Clarif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0" y="5029200"/>
            <a:ext cx="91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 m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usta/encanta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comida mexica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0" y="1752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o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l b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fo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Margari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533520" y="533520"/>
            <a:ext cx="79246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I giv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ac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bo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do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l libro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Pac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J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give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low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d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lore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ell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o wants to buy a gift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or h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ree frie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o quiere 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omprar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alo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sus tres amig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200040" y="0"/>
            <a:ext cx="251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28600" y="0"/>
            <a:ext cx="8915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 going to write a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o h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n a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escribir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una carta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ella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4086360"/>
            <a:ext cx="86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reading the book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o my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roth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 estoy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ley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ndo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os libros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mis                                                           hermanit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47600" y="2286000"/>
            <a:ext cx="762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She bought the plant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or 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a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compr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ó</a:t>
            </a: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lanta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 m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45400" y="0"/>
            <a:ext cx="648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Object Pla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762120"/>
            <a:ext cx="4952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the pronoun placed if it is the object of a conjugated ver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28600" y="3886200"/>
            <a:ext cx="4952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Where is the pronoun placed if it is the object of an infini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019920" y="1295280"/>
            <a:ext cx="321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front of the ve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943600" y="3886200"/>
            <a:ext cx="2819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ttached to the end of the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21:55:33Z</dcterms:created>
  <dc:creator>DEBORAH LENHOFF</dc:creator>
  <dc:description/>
  <dc:language>en-US</dc:language>
  <cp:lastModifiedBy> </cp:lastModifiedBy>
  <dcterms:modified xsi:type="dcterms:W3CDTF">2010-04-20T19:49:45Z</dcterms:modified>
  <cp:revision>15</cp:revision>
  <dc:subject/>
  <dc:title>PowerPoint Presentation</dc:title>
</cp:coreProperties>
</file>